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5FD-9FAE-4143-BBA8-62FBB44385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8D0-D1AE-4FF0-AB79-492BE34823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A3F-9217-456F-8051-827F2050F1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162-7572-45A6-BAAD-E5E7A43112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3F8-84F6-44C7-B0A9-A8533E2FC1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21D-F2B0-4905-9FC0-BE9A828E5E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157-27CB-4F0D-B15E-A2730B8096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307-6129-4996-97B0-2CD62E820E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A7B-8148-44AF-A399-A9D82BD1FB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70D-4790-4023-A941-5922D27219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0101-3A5A-44A9-BE50-5C3EEC9F53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9FAE-628F-427C-9A66-A29CC9CB22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1C4-EBD0-4386-8B13-24760AA633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4CA-B39A-4496-8F18-73021740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6C1-F8D1-4533-85BC-33D1F4E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F9F-FEC6-488D-AFA4-D8C2C925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D59-EE2B-4169-AFC9-BA0431AA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F90-FCDC-4B2F-9DB3-68E8E00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072-28ED-46CF-BD4B-06283509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218-4272-4C5A-8D51-B6DBDE13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005-ECB7-4E73-9545-74906D7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D15-875B-4B3F-8D31-B6B47BB7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33B-1398-4147-BA4E-67C658A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EEE-AB26-4F8C-A184-5A9EC9D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06A-3302-4EF8-ACEF-339C7AA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47E-952D-4A5D-AD79-CFFB19DCFE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20061205_a71201"/>
          <p:cNvPicPr/>
          <p:nvPr/>
        </p:nvPicPr>
        <p:blipFill>
          <a:blip r:embed="rId1"/>
          <a:srcRect l="0" t="0" r="0" b="4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042920" y="1125360"/>
            <a:ext cx="69850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gfaRotisSerif"/>
              </a:rPr>
              <a:t>Unit 1 Big or 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的或者小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6588000" y="1413000"/>
            <a:ext cx="12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b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403280" y="4292640"/>
            <a:ext cx="547380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It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elephant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ig1_2345看图王"/>
          <p:cNvPicPr/>
          <p:nvPr/>
        </p:nvPicPr>
        <p:blipFill>
          <a:blip r:embed="rId1"/>
          <a:stretch/>
        </p:blipFill>
        <p:spPr>
          <a:xfrm>
            <a:off x="1116000" y="189000"/>
            <a:ext cx="5086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6012000" y="141300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m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ff3300"/>
                </a:solidFill>
                <a:latin typeface="AgfaRotisSerif"/>
                <a:ea typeface="Times New Roman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1403280" y="4292640"/>
            <a:ext cx="55450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It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mall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mouse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mall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mall_2345看图王"/>
          <p:cNvPicPr/>
          <p:nvPr/>
        </p:nvPicPr>
        <p:blipFill>
          <a:blip r:embed="rId1"/>
          <a:stretch/>
        </p:blipFill>
        <p:spPr>
          <a:xfrm>
            <a:off x="971640" y="260280"/>
            <a:ext cx="4752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539640" y="404640"/>
            <a:ext cx="820908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[ˈhæpi]      [tɔ:l]     [hɔt]        [biɡ]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gfaRotisSerif"/>
              </a:rPr>
              <a:t>happy   tall    hot     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快乐的            高的         热的           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[sæd]     [ʃɔ:t]    [kəuld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[smɔ:l]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gfaRotisSerif"/>
              </a:rPr>
              <a:t>sad    short   cold   sm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悲伤的           矮的          冷的             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987640" y="15573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</a:rPr>
              <a:t>o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5865480" y="1413000"/>
            <a:ext cx="254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pp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403280" y="4292640"/>
            <a:ext cx="6950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happy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boy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happy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appy1_2345看图王"/>
          <p:cNvPicPr/>
          <p:nvPr/>
        </p:nvPicPr>
        <p:blipFill>
          <a:blip r:embed="rId1"/>
          <a:stretch/>
        </p:blipFill>
        <p:spPr>
          <a:xfrm>
            <a:off x="1692360" y="189000"/>
            <a:ext cx="3531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1908000" y="4221000"/>
            <a:ext cx="453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a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boy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a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495120" y="1413000"/>
            <a:ext cx="15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ad1_2345看图王"/>
          <p:cNvPicPr/>
          <p:nvPr/>
        </p:nvPicPr>
        <p:blipFill>
          <a:blip r:embed="rId1"/>
          <a:stretch/>
        </p:blipFill>
        <p:spPr>
          <a:xfrm>
            <a:off x="1692360" y="0"/>
            <a:ext cx="34941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ASUS\Desktop\单元优备（课件和教案）\sad.bmp"/>
          <p:cNvPicPr/>
          <p:nvPr/>
        </p:nvPicPr>
        <p:blipFill>
          <a:blip r:embed="rId1"/>
          <a:stretch/>
        </p:blipFill>
        <p:spPr>
          <a:xfrm>
            <a:off x="611280" y="260280"/>
            <a:ext cx="5761080" cy="3532320"/>
          </a:xfrm>
          <a:prstGeom prst="rect">
            <a:avLst/>
          </a:prstGeom>
          <a:ln w="0">
            <a:noFill/>
          </a:ln>
        </p:spPr>
      </p:pic>
      <p:sp>
        <p:nvSpPr>
          <p:cNvPr id="60" name="Oval 6"/>
          <p:cNvSpPr/>
          <p:nvPr/>
        </p:nvSpPr>
        <p:spPr>
          <a:xfrm>
            <a:off x="2268360" y="1197000"/>
            <a:ext cx="251964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908000" y="4221000"/>
            <a:ext cx="453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a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girl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a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6495120" y="1413000"/>
            <a:ext cx="15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6012000" y="141300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619280" y="4221000"/>
            <a:ext cx="43210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man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all1_2345看图王"/>
          <p:cNvPicPr/>
          <p:nvPr/>
        </p:nvPicPr>
        <p:blipFill>
          <a:blip r:embed="rId1"/>
          <a:stretch/>
        </p:blipFill>
        <p:spPr>
          <a:xfrm>
            <a:off x="1403280" y="260280"/>
            <a:ext cx="356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6012000" y="141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h</a:t>
            </a:r>
            <a:r>
              <a:rPr b="1" lang="en-US" sz="6000" spc="-1" strike="noStrike">
                <a:solidFill>
                  <a:srgbClr val="ff3300"/>
                </a:solidFill>
                <a:latin typeface="AgfaRotisSerif"/>
                <a:ea typeface="Times New Roman"/>
              </a:rPr>
              <a:t>or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403280" y="4292640"/>
            <a:ext cx="6950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hort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boy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short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hort_2345看图王"/>
          <p:cNvPicPr/>
          <p:nvPr/>
        </p:nvPicPr>
        <p:blipFill>
          <a:blip r:embed="rId1"/>
          <a:stretch/>
        </p:blipFill>
        <p:spPr>
          <a:xfrm>
            <a:off x="1476360" y="0"/>
            <a:ext cx="41385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6012000" y="1413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h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403280" y="4292640"/>
            <a:ext cx="439272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hot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My sister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hot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ot_2345看图王"/>
          <p:cNvPicPr/>
          <p:nvPr/>
        </p:nvPicPr>
        <p:blipFill>
          <a:blip r:embed="rId1"/>
          <a:stretch/>
        </p:blipFill>
        <p:spPr>
          <a:xfrm>
            <a:off x="1258920" y="189000"/>
            <a:ext cx="41720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5906160" y="1413000"/>
            <a:ext cx="176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c</a:t>
            </a:r>
            <a:r>
              <a:rPr b="1" lang="en-US" sz="60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ol</a:t>
            </a:r>
            <a:r>
              <a:rPr b="1" lang="en-US" sz="60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403280" y="4292640"/>
            <a:ext cx="50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She’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col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The girl is </a:t>
            </a:r>
            <a:r>
              <a:rPr b="1" lang="en-US" sz="4400" spc="-1" strike="noStrike">
                <a:solidFill>
                  <a:srgbClr val="ff0000"/>
                </a:solidFill>
                <a:latin typeface="AgfaRotisSerif"/>
                <a:ea typeface="Times New Roman"/>
              </a:rPr>
              <a:t>cold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old_2345看图王"/>
          <p:cNvPicPr/>
          <p:nvPr/>
        </p:nvPicPr>
        <p:blipFill>
          <a:blip r:embed="rId1"/>
          <a:stretch/>
        </p:blipFill>
        <p:spPr>
          <a:xfrm>
            <a:off x="1187280" y="0"/>
            <a:ext cx="4392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25:01Z</dcterms:created>
  <dc:creator/>
  <dc:description/>
  <dc:language>en-US</dc:language>
  <cp:lastModifiedBy/>
  <dcterms:modified xsi:type="dcterms:W3CDTF">2016-12-30T03:25:34Z</dcterms:modified>
  <cp:revision>1</cp:revision>
  <dc:subject/>
  <dc:title/>
</cp:coreProperties>
</file>